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BE1D-4A04-432F-AD80-C4F9F624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EDBFD-5582-41D6-B022-421F34F8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F7E4-D622-4074-B579-08340743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C9C8-8CD7-4347-82F5-EDD2BF7B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6E8A-2ABB-4201-8C7A-A851087B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4BB9-4259-4E44-80A8-9E5EB2C4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3DFD-23AB-4D39-AA9D-F7FB84D2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2E14-8FF7-4691-B02D-B82025EA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B255-CFC9-4520-B76A-D4DEE9DA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D310-262F-48A4-88BF-306AE4EA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F1A5-AD03-40D5-9B14-F36CCCFD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EC2B-6D3D-458C-876C-ECDCFC56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F31E-911C-42E8-995B-6647630A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6C50-8EE6-47CD-BF2D-29FBBA83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4571-5DA2-4C1F-A997-4176CFB1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D727-0FA7-4698-A34D-91E23F29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E247-C460-4C22-A354-7F0D6B3B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6980-A619-41D5-BE77-2D38F38F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DCEC-9F8F-46E0-93B0-EBDB7FC4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2E75-FE77-42D7-B4C6-E660579A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9420-DC0D-4AD1-B9F7-82143050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4DC9-5C13-45E6-8AA4-25061AC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8544-CB66-494F-8CCC-C590BE49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C6E8C-2C56-4F50-B8DB-920BF5A8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94B1-9C26-4984-9B71-C4D6EA16F4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8728-7037-4938-A171-A39609D181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alloween Nigh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Madel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2448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alloween night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a chilly October night….When I heard something scary the noise was a voice saying….give me can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alloween nigh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looked everywhere, but nobody was there, until I looked down.  There was a little monster!  Then I screamed and fainted! An hour later I was fine. But then I saw the monster again .Then I ran home and I saw the calendar. I said it was Halloween I screamed with excitement. but nobody was home felt sad ……the 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23:03Z</dcterms:created>
  <dc:creator>student</dc:creator>
  <dc:description/>
  <dc:language>en-US</dc:language>
  <cp:lastModifiedBy>student</cp:lastModifiedBy>
  <dcterms:modified xsi:type="dcterms:W3CDTF">2010-10-28T17:57:06Z</dcterms:modified>
  <cp:revision>6</cp:revision>
  <dc:subject/>
  <dc:title>Halloween night</dc:title>
</cp:coreProperties>
</file>